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6858000" cy="9144000"/>
  <p:notesSz cx="9269413" cy="6983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D588-B29E-4A43-B22A-970232C3D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6A4E-BDB0-4127-8C5E-00E11EBB4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C51E-AB3F-4AA2-A530-E890FEA6E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B6E5-B259-40EB-8395-5D9DB8188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B961-D6F3-4183-B7C0-8F8AF7CE0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4FBE-359C-4578-86E9-C6E08B9C8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183F-12E7-4B34-8D73-D9EC659C3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3B3E-4781-4871-B295-23290A8F3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EAC0-AC61-46BD-9EB9-345683EF4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8DE8-275E-4E96-8495-4DB45FF1C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464C-BA9F-4FC3-A761-EE2006B8E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1BBE-F148-4A73-B796-AE5C15F10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EAC02-B4D9-4619-8973-6558A643D0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3162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133720" y="762120"/>
            <a:ext cx="2533680" cy="28288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065960" y="4998960"/>
            <a:ext cx="4786200" cy="17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52280" bIns="3816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June 200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Review Personnel Evaluations Syst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E SUPPL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0868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7T13:19:21Z</dcterms:created>
  <dc:creator>Administrator</dc:creator>
  <dc:description/>
  <dc:language>en-US</dc:language>
  <cp:lastModifiedBy>Administrator</cp:lastModifiedBy>
  <dcterms:modified xsi:type="dcterms:W3CDTF">2005-07-08T18:46:11Z</dcterms:modified>
  <cp:revision>7</cp:revision>
  <dc:subject/>
  <dc:title>Slide 1</dc:title>
</cp:coreProperties>
</file>